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B1A-B9FC-4CFD-8305-EA4D78EB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936-3F3D-4ABB-BDC1-309AD63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80D-AF29-4EC9-845C-1E1B90D6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227-4437-452C-957C-1409562A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1C2E-53CB-4682-A5D8-BFF3491E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44A5-5052-4BAF-8DC0-E37D9B3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8E9-4778-4A19-9D40-022A9EB4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720B-CB66-4AC8-9068-E3F4580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084-FC23-4B35-AEE5-7EC594B9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D2F-201C-4707-A0D4-FFD5C1B6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ABB-BA47-4BB8-A6F9-70F34A7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8B7-B908-430F-9EFE-094B39A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F2B2-331F-4D63-9D35-D50C00C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7214-DAC9-42E0-85BE-D3EDFD4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4F57-85A7-49C6-B56A-A8AF810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A689-012B-4A5B-B113-D78E5EEB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2A52-0D40-4114-8423-A30E36E3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E13-FB8D-4240-9848-3820B69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20C-48EB-4B9A-8E8A-8B5D017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85E-696B-4A6C-8572-D950C9E5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3C4-8969-4CA0-8023-915519C3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D6A-A243-44AF-B846-9A96C0A6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1E3-849D-435E-8FC0-B929096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BDE-A590-4CED-8E72-153600E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1437-CB36-4E97-B561-05B4AC0730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135-AE1E-48F5-9A70-C5B38D7D2F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y gain enough money for the renovation of their kitch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from India and they lack resourc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ury Skill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 Identification, Formulation, and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Di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need to provide a program for them to be able to monitor their expen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1:17:58Z</dcterms:created>
  <dc:creator>madrid</dc:creator>
  <dc:description/>
  <dc:language>en-US</dc:language>
  <cp:lastModifiedBy>madrid</cp:lastModifiedBy>
  <dcterms:modified xsi:type="dcterms:W3CDTF">2012-06-27T21:59:19Z</dcterms:modified>
  <cp:revision>2</cp:revision>
  <dc:subject/>
  <dc:title>Problem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